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90E-A14B-46F7-9257-C2DC9883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C4F-E955-4F7F-81C0-2BD2CFBD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096-D16C-46B9-AA25-D6FD19EB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D4F-E110-4AAD-BE9F-F585DD8A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263-CF9C-401E-8207-0A95EC8A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B2F-225F-4287-93D2-1929E8F4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8F3-C9D3-4CE3-B4DA-45B2464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921-FB7A-47F8-9C46-838600BA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E07-6020-424E-9807-10E8AECE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678-8A53-427B-9A63-9A88CDA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C75-0B8C-4352-B49E-88D0F84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587-79D4-4054-91CA-8364DF8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E5D-D54A-434E-9441-945AA6FCF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teacher</cp:lastModifiedBy>
  <dcterms:modified xsi:type="dcterms:W3CDTF">2011-02-07T01:38:07Z</dcterms:modified>
  <cp:revision>7</cp:revision>
  <dc:subject/>
  <dc:title>No Slide Title</dc:title>
</cp:coreProperties>
</file>